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he baby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 does the child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ee if you have got th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… do the children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kep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otic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id we get each on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are on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073-8410-4F0C-8B13-8BB400AE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292-C4C3-4BCF-AB4A-4291585D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4F8-E886-4071-BBF5-EFBDB07A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82A-327F-4055-BD5A-15F2F762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138-70ED-418B-B393-ED938B5E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20C-8EF4-4A82-8F47-F5AF54D1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FD0-835E-407B-9FA4-9D031CB1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4F4-6894-497C-836F-B83F63DA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83D-95FD-4CA0-B7B0-4D073EC2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333-6E5D-40F1-853C-636734B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323-AFBB-405B-B3E9-C21197E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A99-FCFC-40BB-A110-692C1174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994F45-2DFE-41B4-BEFA-17901D08F3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Inheritan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However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716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61320" cy="5956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609480" y="380880"/>
            <a:ext cx="7315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981080"/>
            <a:ext cx="7467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67080" y="3429000"/>
            <a:ext cx="3048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y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2120" y="4267080"/>
            <a:ext cx="3809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52880" y="4952880"/>
            <a:ext cx="3276720" cy="100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1 + 1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62720" y="1401840"/>
            <a:ext cx="53391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69960" y="63972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9240" y="1676520"/>
            <a:ext cx="7077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8880" y="2743200"/>
            <a:ext cx="6113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0680" y="3733920"/>
            <a:ext cx="7483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80760" y="5105520"/>
            <a:ext cx="741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Will the baby have ear lob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2193480" y="4716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362680" y="182880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477480" y="18288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54120" y="3033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568920" y="30337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67800" y="5745240"/>
            <a:ext cx="7638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es the child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942880" y="914400"/>
            <a:ext cx="145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No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13300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81280" y="4038480"/>
          <a:ext cx="2133720" cy="1117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1"/>
          <p:cNvSpPr/>
          <p:nvPr/>
        </p:nvSpPr>
        <p:spPr>
          <a:xfrm>
            <a:off x="3886200" y="45720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520" y="4038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76920" y="464832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2"/>
          <p:cNvGraphicFramePr/>
          <p:nvPr/>
        </p:nvGraphicFramePr>
        <p:xfrm>
          <a:off x="762120" y="1447920"/>
          <a:ext cx="3209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3209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"/>
          <p:cNvSpPr/>
          <p:nvPr/>
        </p:nvSpPr>
        <p:spPr>
          <a:xfrm>
            <a:off x="609480" y="457200"/>
            <a:ext cx="1623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0033"/>
                </a:solidFill>
                <a:latin typeface="Times New Roman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402800" y="716040"/>
            <a:ext cx="34632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419000" y="2666880"/>
            <a:ext cx="317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04920" y="5410080"/>
            <a:ext cx="3444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9600" y="4995720"/>
            <a:ext cx="478908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ffffcc"/>
                </a:solidFill>
                <a:latin typeface="Times New Roman"/>
              </a:rPr>
              <a:t>domin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143000"/>
            <a:ext cx="5867280" cy="4115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800" spc="-1" strike="noStrike">
                <a:solidFill>
                  <a:srgbClr val="0033cc"/>
                </a:solidFill>
                <a:latin typeface="Times New Roman"/>
              </a:rPr>
              <a:t>Lets see if you have got the ide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742840" y="4572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84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47712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43828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3148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67440" y="5745240"/>
            <a:ext cx="7864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 the children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17184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682360" y="9000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724280" y="38862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86040" y="3886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572000" y="50292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594360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36572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3886200"/>
          <a:ext cx="2286000" cy="16509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58"/>
          <p:cNvSpPr/>
          <p:nvPr/>
        </p:nvSpPr>
        <p:spPr>
          <a:xfrm>
            <a:off x="3962520" y="4419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9"/>
          <p:cNvSpPr/>
          <p:nvPr/>
        </p:nvSpPr>
        <p:spPr>
          <a:xfrm>
            <a:off x="3962160" y="5029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"/>
          <p:cNvSpPr/>
          <p:nvPr/>
        </p:nvSpPr>
        <p:spPr>
          <a:xfrm>
            <a:off x="5334120" y="4419720"/>
            <a:ext cx="55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572720" y="441972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9"/>
          <p:cNvSpPr/>
          <p:nvPr/>
        </p:nvSpPr>
        <p:spPr>
          <a:xfrm>
            <a:off x="5410080" y="50292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2057400" y="685800"/>
          <a:ext cx="21034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5105520" y="685800"/>
          <a:ext cx="210348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2133720" y="3505320"/>
          <a:ext cx="2103480" cy="24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50532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5257800" y="3581280"/>
          <a:ext cx="1927080" cy="22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581280"/>
                    <a:ext cx="19270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2438280" y="15238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562720" y="1447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590920" y="4343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715000" y="42670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31720" y="639720"/>
            <a:ext cx="6547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585800" y="1662120"/>
          <a:ext cx="59785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662120"/>
                    <a:ext cx="59785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685800" y="548640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495680" y="449568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8480" y="563400"/>
            <a:ext cx="8216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1752480"/>
            <a:ext cx="7543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14400" y="3276720"/>
            <a:ext cx="556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3520" y="3352680"/>
            <a:ext cx="6692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29160" y="5227560"/>
            <a:ext cx="456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38640" y="5303880"/>
            <a:ext cx="734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054320" y="4389480"/>
            <a:ext cx="114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21880" y="258840"/>
            <a:ext cx="5519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152800" y="1523880"/>
          <a:ext cx="347328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1523880"/>
                    <a:ext cx="347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3640320" y="4983120"/>
            <a:ext cx="451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are they kep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038480" y="29718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943600" y="2209680"/>
            <a:ext cx="173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31520" y="503280"/>
            <a:ext cx="784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3680" y="1265400"/>
            <a:ext cx="5262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0033cc"/>
                </a:solidFill>
                <a:latin typeface="Times New Roman"/>
              </a:rPr>
              <a:t>chromoso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652840" y="2824200"/>
          <a:ext cx="36925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2824200"/>
                    <a:ext cx="36925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01680" y="563400"/>
            <a:ext cx="681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5184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352880" y="5668920"/>
            <a:ext cx="6806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at do you notice abou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125360" y="334800"/>
            <a:ext cx="697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974160" y="5288040"/>
            <a:ext cx="70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did we get each one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5105520" y="1980720"/>
            <a:ext cx="99036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095880" y="1219320"/>
            <a:ext cx="2799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3733920"/>
            <a:ext cx="175248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43000" y="1219320"/>
            <a:ext cx="17366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837720" y="380880"/>
            <a:ext cx="707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74160" y="1401840"/>
            <a:ext cx="238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4555800" y="24224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708080" y="3336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13680" y="5516640"/>
            <a:ext cx="591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Times New Roman"/>
              </a:rPr>
              <a:t>Genes are on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98920" y="258840"/>
            <a:ext cx="1100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51800" y="1020600"/>
            <a:ext cx="697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9040" y="1887480"/>
            <a:ext cx="334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11520" y="2725560"/>
            <a:ext cx="3376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715000" y="2666880"/>
            <a:ext cx="86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11160" y="3335400"/>
            <a:ext cx="401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790960" y="335268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641400" y="4021200"/>
            <a:ext cx="608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887840" y="4707000"/>
            <a:ext cx="375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5790960" y="4648320"/>
            <a:ext cx="74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332880" y="554508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838080" y="228600"/>
            <a:ext cx="769644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7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3:29:38Z</dcterms:created>
  <dc:creator>Richard King</dc:creator>
  <dc:description>Inheritance basic</dc:description>
  <cp:keywords>Inheritance basic</cp:keywords>
  <dc:language>en-US</dc:language>
  <cp:lastModifiedBy>LEGION2</cp:lastModifiedBy>
  <dcterms:modified xsi:type="dcterms:W3CDTF">2016-01-12T11:18:39Z</dcterms:modified>
  <cp:revision>51</cp:revision>
  <dc:subject>Inheritance basic</dc:subject>
  <dc:title>Inheritance basic</dc:title>
</cp:coreProperties>
</file>